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FB3-6F0D-4FE6-B243-341EFC3A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A7D-EF18-4C08-B2BE-6FBD42D9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99C-CFC7-4130-A086-4772B374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88B-06F4-49D6-A226-BA971402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AEBB-FCA5-42C2-A3AA-55BF2070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5949-390F-4908-BEFF-D221721F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27BC-AA0D-4FDE-ABE0-A085ED34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520F-B4FE-43A6-A8F3-DA7DA317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85C-07C5-4B19-BC72-07D260B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895A-68F5-4BAF-AD79-48144834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E16F-0D54-49EC-9561-D9347DF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445-0987-410D-97FA-E40CEE70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771E-1E1E-402B-85E6-61026B1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8B9A-FD86-415A-895F-4A34E57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73EC-7E60-4D3A-9197-2F0B15F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0D84-AE3A-4BB9-B188-D0B16B69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8711-9CE8-488C-90D9-2B9E07E4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BAA-0270-4DF9-A778-75D79560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D8B-9907-466F-8B7B-40290EE4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5D9-9A29-476D-92C0-CF661AB7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143-7372-40BD-815D-54569791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909-9BB6-4149-805C-ABF23F4F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BBD-73CD-4891-BBA9-D2C1BDD9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DEA-027B-46E0-AFB9-797C295B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88AF-5019-4E82-9D17-225F1C8BA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C865-9B9C-4ACE-8B22-647945A76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Place Value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74360" y="1828800"/>
            <a:ext cx="39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973,10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0240" y="3909960"/>
            <a:ext cx="64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seventy-thre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, one hundred 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19640" y="1828800"/>
            <a:ext cx="599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384,133,472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7280" y="3909960"/>
            <a:ext cx="806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ree hundred eighty-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hundred thirty-thre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hundred seventy-tw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84000" y="190512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1,874,304,039,270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505320"/>
            <a:ext cx="900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trillion, eight hundred sev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llion, three hundred 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r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wo hundred seven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560" y="3505320"/>
            <a:ext cx="853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ight hundred twen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fiv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member that each period ha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ee place values within the peri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6000">
            <a:off x="-30528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6000">
            <a:off x="1294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6000">
            <a:off x="2970720" y="2667240"/>
            <a:ext cx="3124080" cy="14464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6000">
            <a:off x="4723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6000">
            <a:off x="647604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  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8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350532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1480" y="3581280"/>
            <a:ext cx="34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4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720" y="3581280"/>
            <a:ext cx="207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9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5480" y="35812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6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912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938320" y="2057400"/>
            <a:ext cx="36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6640" y="407520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5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80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7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86080" y="358128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8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56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34,789,10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524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64,789,13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13640" y="35812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90512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Ninety thousand, four hundred eigh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9240" y="3767040"/>
            <a:ext cx="227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90,408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981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even million, twenty-two thousand, two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2960" y="376704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2,2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expande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560" y="22860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1,5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4038480"/>
            <a:ext cx="78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7,000,000 + 20,000 + 1,000 + 500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200" y="342900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000 + 300 + 60 + 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82880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6,80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1160" y="3429000"/>
            <a:ext cx="62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0,000 + 6,000 + 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80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7339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82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5200" y="198108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000 + 800 + 2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wo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0600" y="182880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280" y="3581280"/>
            <a:ext cx="85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four thousand, three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ixty-seve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the periods of this 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6000">
            <a:off x="-38088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12952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8954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4832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640080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read large number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97400" y="548640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6000">
            <a:off x="74520" y="3731760"/>
            <a:ext cx="221004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7524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3526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673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8961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Read the numbers before the comma as if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you were reading in the one’s column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ay the period you are in when you get to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the comma except for the one’s period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163960" y="182880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4,371,02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840" y="3909960"/>
            <a:ext cx="797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three hundred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venty-one thousand, tw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nbdoe</cp:lastModifiedBy>
  <dcterms:modified xsi:type="dcterms:W3CDTF">2008-09-09T01:11:54Z</dcterms:modified>
  <cp:revision>8</cp:revision>
  <dc:subject/>
  <dc:title>Math Flash</dc:title>
</cp:coreProperties>
</file>